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935-C4EF-4CD2-AA6F-A58AAC7B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B53-D0C5-4C89-AA31-95062AC0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8C8-D5B8-4E27-BB77-D566C405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10F-223A-43A5-B82E-069E4E7A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57D-E374-4D3D-9351-D192C633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67E-19D7-4A23-9385-536122E0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123-9BA4-4D1D-A525-BCCA2D61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8AF-A4EA-4666-B9C8-AD2A99AF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3F0-FCCA-4F37-AB1E-8FFC291F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7CB-7A8E-41FB-8895-2CD9A11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70F-19BC-4996-807F-46785CA3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2B4-EF8F-4007-9006-3B8FBC82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42CF-8090-435F-910A-93A37513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oon Sho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7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4914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seen all of these moon shots, create your ow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ork alone or with a partn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create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aper provided to help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your idea, tell the adult.  Then he/she will take you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71880" y="152280"/>
            <a:ext cx="4857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50292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27:41Z</dcterms:created>
  <dc:creator>KPS</dc:creator>
  <dc:description/>
  <dc:language>en-US</dc:language>
  <cp:lastModifiedBy>KPS</cp:lastModifiedBy>
  <dcterms:modified xsi:type="dcterms:W3CDTF">2011-11-16T21:14:23Z</dcterms:modified>
  <cp:revision>3</cp:revision>
  <dc:subject/>
  <dc:title>Moon Shots</dc:title>
</cp:coreProperties>
</file>